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37960" y="763200"/>
            <a:ext cx="5492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dt" idx="25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ftr" idx="26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 type="sldNum" idx="27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8D7863-0EEE-4E29-912E-1CF163A798BB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38320" y="763560"/>
            <a:ext cx="549576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6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138320" y="763560"/>
            <a:ext cx="549576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6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138320" y="763560"/>
            <a:ext cx="549576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6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38320" y="763560"/>
            <a:ext cx="549576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6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1138320" y="763560"/>
            <a:ext cx="549576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6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98BD-FEB4-4CF5-A8FE-A14B26338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BBAE-2150-4878-8B02-9DD2CA00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A429-7D07-4FBB-A426-87DAB061E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10ED-7733-4690-B020-C5AE6D6CD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2601-BB85-4363-8748-E75E93A6D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3D24-8034-45E1-9202-B1253A0F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531FF-1916-4B66-A3C3-C98DBA76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74FC-0ED6-4342-936E-D9FABF86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6B9E-B88A-495E-B1C1-D1A1BB37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45A9-AA65-4B49-BD14-8ABA2FC1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5BF7-5C72-448D-AC50-E05B01BC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B336-C643-4F6C-A5A0-E9584D41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34A4A-9604-48B4-A523-B1ED2DFE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0E7D-4384-4E4C-B7DC-E6CABB01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488FD-1129-4A48-AD31-222A369C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84CB-CCF4-4EA0-B3BA-B4B8A1F44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845D-0866-45BA-8820-3E46A6FB5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D3095-1C80-42DB-9A42-2E5038220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78A73-987E-4B84-9176-A14A3E59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FD7F8-026E-45C6-B767-CC0EDE4A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936CA-5160-4E10-B9A0-8DFA79FF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ECF17-561C-411D-A5F5-D9D6EC9B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10AF-E628-4B62-871B-D529EB6F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6CCB2-5D9D-4C50-9F13-51F03351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EB9BC-D9D9-45AB-A5E5-E47861A6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2D9EA-245F-429F-9AAC-1CF9A655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3DB99-2A3B-4203-964A-C696CEE0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D31D1-E177-4D5A-92A6-CB2E5A3C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B9243-F83B-480D-A862-D1B49B0B7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98522-A6E2-4A50-89E9-270D65381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FD5C3-276A-4332-8FAC-8D7AE640B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11A0E-FBBC-40A8-B335-9B1368B4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FA193-1190-4F1C-9324-C5C02082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9BFA-E40F-47A2-9186-EE7AAE1F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3C0CA-1B7D-476C-AF8F-4CFFC2CE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D32CD-9A19-4416-A756-8D731F20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4FF96-7192-4D18-AC12-1A935737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E0B23-F2E6-4AAA-8039-42D77600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F0209-EEF2-4BB3-9154-01F5CA13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48ACA-967D-4A1C-941E-92B9CF9F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ED113-AF8E-473F-AC77-67EC93C7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2FFB7-76A0-48D7-A264-5A1A45963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70B6B-EA8D-4CF0-87C7-840694502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9611D-133E-4BCC-9823-AE7B1E325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9DA9-8894-4F49-9B8D-DC4FAC02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8E432-AAE0-4564-AE6A-80FEE3C8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A131E-58CC-4715-8838-56B55D19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3104C-D70B-4B38-8FC3-0ACE34B3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FFA60-E53C-44FC-A755-6741322F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8BC18-2CFA-47D2-ADEE-92F90028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43716-2BE2-4F8D-8E76-A832F997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5C2DE-4A9F-4590-A14B-36120166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B16B0-449B-4AFA-B344-3E9713F0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D90D4-6841-488D-90AB-F1327BC3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11FB6-C2D9-48A2-8AB2-D443851D8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A309-BFDE-4364-BA5F-E0D2687F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99F83-AC2D-4D14-869B-15D531A5E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C0066-2B79-419A-9BF5-D8BA8E329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612C1-C434-4E6E-B9D4-68BAA220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CDC82-F110-4394-ABDD-1EAEF352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1F3E1-B1C3-4F83-8D7A-9580487D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9F102-BF6F-4740-BB60-163C734E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FBDF4-F314-43EB-87EC-FB555020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8F503-4005-43BF-957A-8A4202FA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4D5C5-E2C1-417D-B60B-1422C999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6FF6B-B429-4A5B-9EE0-A48FFD81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0C26-6C96-45F9-99E4-A860D097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7B0BD-28A7-432D-B98D-7EBC18D3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DFAEE-D5A7-4DE8-80D8-FA1134D55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BA68C-4047-44E6-AAF7-D6E7EC5B1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5E673-7C31-4B55-9C8D-EA4E70ACC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B23DF-5F6C-4AA0-B4C2-1A897E0E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B7307-8F01-4925-BC89-7F21BFC2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8CC60-C6CA-478B-BF02-F0B63F0D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B82DD-F37F-4FB9-B1DE-78A5252C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E32B6-FBC9-420A-8832-4D5442FD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2CAB3-27D7-4EC1-AA89-D3DEB8C5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C4CF-9432-4F9A-AD02-B7F72443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81BA0-7F5C-4E33-B1E7-D1DAA193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C39A3-A93A-463C-9B63-1C7FA48D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178E1-3B38-416A-AA92-197A36C6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314E2-4753-49E5-9E0F-D142E3FF0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68066-8612-4531-943A-9D16BD11F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76723-9CB9-46A9-9E6B-FBB7F35DD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59614-AE46-440E-A0D9-1D7F6F9B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C0659-5779-419D-8CA1-8A87E594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47658-9BF3-486A-986B-A60A3561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8C764-5DF9-4850-91B8-8334C00C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D6C0-0EF4-4592-90F7-3A0707A1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08383-3C26-4BAC-BC44-BE6F43E1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3D70C-98BB-41D7-B10F-9B436E2F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1972B-5CDA-4800-9B1F-7402B012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1BAC3-4A5A-4F22-8FBE-FB7E07FF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A9750-E4B8-4861-8831-36B491162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021E2-437E-40C0-BE38-D15CF0C51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468FB-9A45-4039-979B-A89B6AA77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3A45C9-D46D-498B-8D51-E76D6567E3C0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0360" y="1979280"/>
            <a:ext cx="845676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8000"/>
          </a:bodyPr>
          <a:p>
            <a:pPr marL="3016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1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2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3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4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5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6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76080" y="630072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19640" y="6318000"/>
            <a:ext cx="321912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1720" y="631800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47B252-151E-49E3-AB81-F3FBFF7E3E05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077746-6F4D-4BDA-BF94-CFA57202ACD9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99640" y="1979280"/>
            <a:ext cx="82774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397ACC-6066-4C2A-A501-220AEA397E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9E5807-98F7-40D9-A265-F5CF17BF017E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03280" y="2160720"/>
            <a:ext cx="906768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757375-1251-434B-B87C-05F66C79AD3F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8060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47640" y="1913040"/>
            <a:ext cx="867240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9000"/>
          </a:bodyPr>
          <a:p>
            <a:pPr marL="3394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502920" y="652752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411360" y="6527520"/>
            <a:ext cx="31924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154640" y="652752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AD786F-79E6-4445-A9AD-DB509B888864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C8E7B-C7AA-4423-BD15-3A81FF942397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6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89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89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89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89.xml"/><Relationship Id="rId9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By Alexander Dav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ES" sz="4400" spc="-1" strike="noStrike">
                <a:solidFill>
                  <a:srgbClr val="ffffff"/>
                </a:solidFill>
                <a:latin typeface="Times New Roman"/>
              </a:rPr>
              <a:t>Spanish Presentation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3314880" y="2971800"/>
            <a:ext cx="2857320" cy="311472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2920" y="189000"/>
            <a:ext cx="907092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ES" sz="4400" spc="-1" strike="noStrike">
                <a:solidFill>
                  <a:srgbClr val="ffffff"/>
                </a:solidFill>
                <a:latin typeface="Times New Roman"/>
              </a:rPr>
              <a:t>Las cosas que yo har</a:t>
            </a:r>
            <a:r>
              <a:rPr b="1" i="1" lang="es-ES" sz="4400" spc="-1" strike="noStrike">
                <a:solidFill>
                  <a:srgbClr val="ffffff"/>
                </a:solidFill>
                <a:latin typeface="Segoe UI"/>
                <a:ea typeface="Segoe UI"/>
              </a:rPr>
              <a:t>é en el fin de semana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295200" y="1438200"/>
            <a:ext cx="3362400" cy="35910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4"/>
          <a:stretch/>
        </p:blipFill>
        <p:spPr>
          <a:xfrm>
            <a:off x="5194440" y="1374840"/>
            <a:ext cx="3949560" cy="36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2971800" y="914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2920" y="282600"/>
            <a:ext cx="907092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ES" sz="4400" spc="-1" strike="noStrike">
                <a:solidFill>
                  <a:srgbClr val="ffffff"/>
                </a:solidFill>
                <a:latin typeface="Times New Roman"/>
              </a:rPr>
              <a:t>Las cosas mi favoritas cuando era un niño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3"/>
          <a:stretch/>
        </p:blipFill>
        <p:spPr>
          <a:xfrm>
            <a:off x="3295800" y="4933800"/>
            <a:ext cx="3333600" cy="238140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4"/>
          <a:stretch/>
        </p:blipFill>
        <p:spPr>
          <a:xfrm>
            <a:off x="685800" y="1143000"/>
            <a:ext cx="2135160" cy="297180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5"/>
          <a:stretch/>
        </p:blipFill>
        <p:spPr>
          <a:xfrm>
            <a:off x="7448400" y="1257480"/>
            <a:ext cx="238140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2920" y="282600"/>
            <a:ext cx="907092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ES" sz="4400" spc="-1" strike="noStrike">
                <a:solidFill>
                  <a:srgbClr val="ffffff"/>
                </a:solidFill>
                <a:latin typeface="Times New Roman"/>
              </a:rPr>
              <a:t>Las cosas que yo hice en la clase pasado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228600" y="1828800"/>
            <a:ext cx="4343400" cy="29718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5715000" y="1828800"/>
            <a:ext cx="2705040" cy="26478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2981160" y="4114800"/>
            <a:ext cx="364824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3564000" y="1154160"/>
            <a:ext cx="3751200" cy="20462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6269040" y="4114800"/>
            <a:ext cx="2874960" cy="160488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ES" sz="4400" spc="-1" strike="noStrike">
                <a:solidFill>
                  <a:srgbClr val="ffffff"/>
                </a:solidFill>
                <a:latin typeface="Times New Roman"/>
              </a:rPr>
              <a:t>6 cosas haría hoy si no sea en esquela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4"/>
          <a:stretch/>
        </p:blipFill>
        <p:spPr>
          <a:xfrm>
            <a:off x="3629160" y="3657600"/>
            <a:ext cx="3000240" cy="299088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5"/>
          <a:stretch/>
        </p:blipFill>
        <p:spPr>
          <a:xfrm>
            <a:off x="6400800" y="1371600"/>
            <a:ext cx="2514600" cy="24703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6"/>
          <a:stretch/>
        </p:blipFill>
        <p:spPr>
          <a:xfrm>
            <a:off x="685800" y="1828800"/>
            <a:ext cx="3449520" cy="25146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7"/>
          <a:stretch/>
        </p:blipFill>
        <p:spPr>
          <a:xfrm>
            <a:off x="430200" y="4800600"/>
            <a:ext cx="2998800" cy="1949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00:01:41Z</dcterms:created>
  <dc:creator>Alexander Davis</dc:creator>
  <dc:description/>
  <dc:language>en-US</dc:language>
  <cp:lastModifiedBy/>
  <cp:revision>1</cp:revision>
  <dc:subject/>
  <dc:title/>
</cp:coreProperties>
</file>